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76A-21E2-40AE-A11F-6FE1F62B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CBF-9BE1-4EF9-B5D6-A602B99C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32D-6FD2-4E5C-BADB-2F8CDB79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714-07C0-4471-80DD-D25EAA3F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C7D-23B6-439C-97A8-15C5FB2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679-C68F-48C9-9A5B-8F30812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86A-0A6C-468E-90A4-25AD660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841-D146-4809-99C3-BD82EDF1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817-3647-40D8-A75C-D6B2696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9E6-5128-4860-B7E7-D9D1C0E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2EB-3690-4422-93D7-E5A2D11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AA2-FDF2-444D-AC9A-32E811F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6BB-9EA1-45C9-AFA6-3D24E5B5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3D0-82AC-44DD-9979-2B7989417A65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060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xpress 3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2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in the form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)  wher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&gt; 0  and 0 ≤ 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&lt;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5C5-8463-4AD1-AD3C-78F435912AAB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52140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13E-315E-4667-8AAE-59D4C4627BF2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989000"/>
            <a:ext cx="66261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349360"/>
            <a:ext cx="745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owth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35 Exercise 1     Q1, to Q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ight forward, reminder and to buil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221000"/>
            <a:ext cx="745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ca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36 Exercise 2     Q1, to  Q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member the way  to find the multiplier.  buil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599E-0D37-4918-A783-50844A3CB11A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am Standard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7ED-59AC-468F-9154-356E9EFA2D3B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989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1-25T16:04:49Z</dcterms:modified>
  <cp:revision>38</cp:revision>
  <dc:subject/>
  <dc:title>Slide 1</dc:title>
</cp:coreProperties>
</file>